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35E-8F0F-4EC4-BE11-C0137E60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AA3-36DD-4BF5-93CC-9D708EE8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4B8-4459-42B1-8276-DC101AB0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F0F-C82C-42C4-A854-3CB5FCF8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6F9E-CA1F-4F55-BCA4-661B71DD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74A1-F7F4-42B1-A044-464C05D5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EDDD-AF01-4FB1-89B8-C82D11D0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7D69-6879-49F7-9319-7ACCE11B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64FB-5E62-4036-9B0C-CBC236A7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9C1B-C50F-4F65-ACFC-6314504F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9CCD-D716-43EC-A12C-FB3F488E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0DB-7809-4C00-A4A9-939DEEA2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EFB7-D112-45DE-ABBE-5538852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43DF-D5CE-4F95-AD3C-F6304985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4CAE-70AF-46D6-B82D-82C09ADA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DE29-F808-4076-8319-2EBC62AE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E38B-FF97-40AC-BFA8-834AA9DB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023-637B-4C64-8D6F-EC99B1E2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3CE-37B7-48D4-928B-309942E2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6C6-EBDB-46EA-89F7-05A8EB41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B2E-48E9-4470-BA92-22B0B9A3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33D-9147-4DD9-8370-F9ED1C4E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773-E70C-4040-AEBA-39710491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14B-680A-4ABB-9A06-226BB427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9B24-21B0-4B0E-AAFF-AB922A1B8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FD59-71A3-4861-A90D-411A3CAE0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оём как многоэтажное жилищ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работу: Максименко Вл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обенност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Плотность более высокая, чем плотность воздуха. Благодаря этому огромное число животных способно как бы парить в водной толщине, никогда не опускаться на д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Вода менее прозрачна, чем воздух. На глубине 200 м царят сумерки, а на большие глубины никогда не проникает солнечный 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Вода обладает высокой теплоёмкостью, чем воздух (поэтому купальщики так быстро мёрзну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Бент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лан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Не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Литора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496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Бентос (от греч. бентос – глубина.)  –животные которые можно обнаружить на дне. Это различные губки, кишечнополостные (кораллы и актинии), плоские и кольчатые черви. Так же  креветки, раки и крабы, двухстворчатые и брюхоногие моллю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ланктон (от греч. планктос – блуждающие.) – животные у которых плотность тела не отличается от плотности воды и поэтому они способны, «висеть» в её толщине. Помогает им в этом многочисленные выросты на теле. Это радиолярии, медузы, маленькие рачки, гребе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48320" y="1146240"/>
            <a:ext cx="4495680" cy="2806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8320" y="3981600"/>
            <a:ext cx="44956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ектон (от греч. нектос – плывущий.)- это животные которые обитают в толщине воды и легко справляются с самыми сильными течениями и развивают большую скорость. Наиболее типичные нектонные животные – это рыбы, киты, дельфины, кальмары. Развивают скорость очень большую до 130 к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302360" cy="276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Литораль ( от лат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us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реговой.)- это животные которые обитают на границе водной и наземно-воздушной среде.  Это крабы, раки, илистый прыгу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2-17T15:14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